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192-1760-482E-A450-BE451035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120-5161-448C-BB43-C939AFBA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48F-9F54-48E0-8E9D-8357E967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D0D-8834-4FA1-821D-E7165D69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E7BC-62BC-431B-BF92-A039E8FF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3562-02D3-46D0-9C4D-CC3ABAC6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441-27E8-412E-828E-E2F3827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531-013B-4547-81CA-B81BE614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5EE3-F35F-40A2-8BD8-D3A0FF6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4874-4581-4FDE-8753-77B6437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4475-BEF9-4777-806C-2DC8339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54A-6620-4AAE-BC0C-0E2BD89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ED39-84B0-4815-BDEA-85478A0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BB3-A7C7-4FFE-8794-59DB4F3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BE2-D21C-4B4D-9331-63BCF07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DC36-403E-49CB-AD42-1F7439EE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8328-0AF3-4F1D-BFB1-D1CDD7B8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50A7-F0BA-487E-8C9F-93BA18BA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88830-7799-47E8-9F4B-A473F982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DCD6-3EE1-4431-B501-48D6F78C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B1B5-1717-4A95-AB3C-AF930A8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2C53-A9E8-48E2-91BF-0C80513F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A28-6446-408E-8C03-DFD7872A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123F-C84C-4906-B3DF-EB7FBF47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3F9B-6AA9-4239-A467-0FD7BBC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6B4A1-D65C-4944-A438-F58C2D3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0EF2-C696-4D54-ADD7-CF0C7CD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28A0A-1EC0-4925-95B4-CCBBE8E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88E0-F70A-4194-AD45-FDC1E4C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57B6-13AA-40F1-AF27-FF41CB13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4DDD-D283-41AA-84BB-5FC4752E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91A1-727A-4EB2-AE5D-88B7157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5FAB-4882-49A2-8405-CC6EC8BE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E1C-75C0-428E-BE35-9B7F740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F0AB5-FE92-4BF4-AC7C-C9500A34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FF5B-E032-4223-A650-2120FF5B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F410-1A70-436D-8009-1C80422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C6CC-48E1-41BC-B617-01908ABE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FDC5-739C-4F2E-9964-751F4D7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5F01-AF9F-4795-9896-51C8E6C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D7D0-16C8-4ADB-99CB-FC38989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29DA-76F7-4AFE-A4A4-4AD30FE4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5976-CE77-4B7C-862F-D448F509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20977-C3DE-4D18-8405-F61A5E03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499-983D-4B3D-B262-69C03D9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6B3F-31CF-4E41-8A3C-6E3059F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EF895-FF5A-47E2-A5FD-99D9B9BF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75A9-8325-409D-B11C-0A15B079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540C-54B7-4868-90BD-F916D58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03B3-E782-4283-9F25-103C8F52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2C07-D03B-495C-94E3-4AA580B1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C882-560F-41C0-B401-1E45C49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557F-5653-4A51-825A-345C05F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2EFE-BE20-49FC-BF22-0A61EF7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B4AE-57E7-4AE6-9DBB-5A04374E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2B1-8EF3-41DC-A2EA-2F69213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AA5C-CAC4-484B-B2E8-AC654FFD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BB0C-30A0-4583-AD36-2544797E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E5D5-F3CD-409A-B4A8-7FE51D1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0DA38-A0C3-44ED-B1A1-42E4033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A109A-AC13-466C-ABFF-05E208F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C4B0-FE35-44C2-9D42-A48A1E2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AA5B-C5BD-4F88-BF62-61948A5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D2D0-23F5-4A0E-AA04-A4560F8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90B3-0C7A-4271-81B0-48317CE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3D8D-71FB-4CB0-AC72-08AD698C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76B-C55C-4F40-8D43-17BF10E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0136-A296-48A0-B30C-05203B4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3A25C-A6AA-4BA5-89A1-72613771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8AC4-5A6C-460B-8AA6-A140940E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CF1C4-D251-46B8-9531-B85B34D5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5B59-F03C-464F-9EEB-1B2B6945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7D910-9254-4F52-AD6A-5ACD51EC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048C-4B88-40B4-A7FA-7558480D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0D35B-0F8D-4470-9EF1-6DE02615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4DE1-0C4F-4F04-84C1-F2E260C3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DE76C-2D47-4641-B02D-E6E89B86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4A7-985C-4E0C-A144-883E82C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54C5-3F95-4568-BBD8-985B832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0E83B-58B1-41AA-884E-461ACC9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34038-21BF-4828-A832-3BCF15F1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6484-9607-4229-8030-65F11D87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91744-E022-4CA4-9151-896007D1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7CA-32F9-4DC9-9F5B-7DC5ADA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D6B7-F15A-4576-99CA-87129CAFF4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0DC-CFFD-41FC-81EC-8EE0C4E1B79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C01-BEC0-4F7C-B270-5334AA080F1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11B-AF39-4F98-B58E-354BDDFD14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3157-FA9A-4411-8590-E865260B4C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672-4343-40BD-BFEC-8279267CA3C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EE59-11C8-4529-9026-54C343029B5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ssay Introduc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nnect Your Subject to Your Readers’ Interests or Valu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tart with Something That Will Provoke Readers’ Interes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rt with an Anecdo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sk a 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y are Introductions Important?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en reading something, we usually read the first few lines or paragraphs to see if we’d like to continu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re  “attention grabbing” = more likely we’ll read it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halleng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write for a variety of purp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 read for a variety of purpo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 ONE style of introducing a topic will ALWAYs work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sider WHY You Are Writ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ademic audiences expect essays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context for your essa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lain how the text fits into some larger conversation (They say…I say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certain ques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plore an aspect of a top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n-Academic audiences expect writings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tice the reader to read more b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ng ideas in one piece with a shared experience (that the audience might hav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ing anecdo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attention-grabbing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ques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non-sensical example that may make sense as the piece adva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ardles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r introduction must “warm-up” the reader to the point you are going to mak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 cannot (most likely) just come out and fling your thesis around in the first sentenc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opening acts at concer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pre-game show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movie preview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nk about the banter newscasters and teachers offer before jumping into a topi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st Importantly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nk about brain research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human brain MUST attach new information to information it ALREADY h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…if your thesis (and essay) are “new” information, you must build a little bit of background within the essay before giving it new stuff to think about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plain the Larger Context of Your Topic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ffer Background Inform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fine Key Terms or Concep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43:30Z</dcterms:created>
  <dc:creator>.</dc:creator>
  <dc:description/>
  <dc:language>en-US</dc:language>
  <cp:lastModifiedBy>.</cp:lastModifiedBy>
  <dcterms:modified xsi:type="dcterms:W3CDTF">2009-01-06T18:04:00Z</dcterms:modified>
  <cp:revision>4</cp:revision>
  <dc:subject/>
  <dc:title>Essay Introductions</dc:title>
</cp:coreProperties>
</file>